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BA9E4-7AD1-4A90-AA94-930D5E533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B85F-A890-45F4-A7C8-03054CA3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B9C1B-2BF8-4D2E-A1E5-DC40E7B7F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C033F-F28F-4197-8108-1B1650E5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C1E84-4B24-4637-857A-E62346E9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7695A-C5DD-40FC-9753-2EADAEB9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4672C-5834-4C5D-AD1C-E4ECF27A1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CEED-107C-473B-B3B8-A06A2A84B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3B42-A9CD-4A13-A720-70569BC7B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B805-E5D8-4B3C-82FB-8EF21D2C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FC9B-CDAB-443B-9F19-46581DFB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BCEF-9257-4361-9894-EF4A6CCD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CA2C-AAB9-46E9-98A2-322DE9C7F1CD}"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BA57-F022-48EC-A33D-3B79A88FB3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SWG Nodal Update</a:t>
            </a:r>
            <a:br>
              <a:rPr sz="4000"/>
            </a:br>
            <a:r>
              <a:rPr b="0" lang="en-US" sz="4000" spc="-1" strike="noStrike">
                <a:solidFill>
                  <a:srgbClr val="000000"/>
                </a:solidFill>
                <a:latin typeface="Calibri"/>
              </a:rPr>
              <a:t>Topology Processor/Modeling Issues</a:t>
            </a:r>
            <a:endParaRPr b="0" lang="en-US" sz="4000" spc="-1" strike="noStrike">
              <a:solidFill>
                <a:srgbClr val="000000"/>
              </a:solidFill>
              <a:latin typeface="Calibri"/>
            </a:endParaRPr>
          </a:p>
        </p:txBody>
      </p:sp>
      <p:sp>
        <p:nvSpPr>
          <p:cNvPr id="42" name=""/>
          <p:cNvSpPr txBox="1"/>
          <p:nvPr/>
        </p:nvSpPr>
        <p:spPr>
          <a:xfrm>
            <a:off x="457200" y="4876920"/>
            <a:ext cx="8229600" cy="1249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s Woit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erPoint Energy</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0 SSWG Chair</a:t>
            </a:r>
            <a:endParaRPr b="0" lang="en-US" sz="18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5C5A-C053-4FBC-B6D8-BBBA7F17114D}" type="slidenum">
              <a:rPr b="0" lang="en-US" sz="1200" spc="-1" strike="noStrike">
                <a:solidFill>
                  <a:srgbClr val="898989"/>
                </a:solidFill>
                <a:latin typeface="Calibri"/>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dal Annual Planning Model</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al Protocol 3.10.2</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For each of the next five years, ERCOT shall develop models for annual planning purposes that contain, as much as practicable, information consistent with the Network Operations Model.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ERCOT shall coordinate updates to the Annual Planning Model with the Network Operations Model to ensure consistency of data within and between the Annual Planning Model and Network Operations Model to the extent practicable</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al Protocol 3.11.1</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he data within and between the Annual Planning Model and the Network Operations Model shall be coordinated to ensure consistency within and between the Annual Planning Model and the Network Operations Model.</a:t>
            </a:r>
            <a:endParaRPr b="0" lang="en-US" sz="18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1310-72C5-4CE5-B617-26950CCED9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timeline_08312009"/>
          <p:cNvPicPr/>
          <p:nvPr/>
        </p:nvPicPr>
        <p:blipFill>
          <a:blip r:embed="rId1"/>
          <a:stretch/>
        </p:blipFill>
        <p:spPr>
          <a:xfrm>
            <a:off x="1066680" y="1828800"/>
            <a:ext cx="6902640" cy="3825720"/>
          </a:xfrm>
          <a:prstGeom prst="rect">
            <a:avLst/>
          </a:prstGeom>
          <a:ln w="9360">
            <a:solidFill>
              <a:srgbClr val="4f81bd"/>
            </a:solidFill>
            <a:miter/>
          </a:ln>
        </p:spPr>
      </p:pic>
      <p:sp>
        <p:nvSpPr>
          <p:cNvPr id="48" name="TextBox 4"/>
          <p:cNvSpPr/>
          <p:nvPr/>
        </p:nvSpPr>
        <p:spPr>
          <a:xfrm>
            <a:off x="1842480" y="304920"/>
            <a:ext cx="509724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WG Nodal Planning Go-Liv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 as of September 2009</a:t>
            </a:r>
            <a:endParaRPr b="0" lang="en-US" sz="2800" spc="-1" strike="noStrike">
              <a:solidFill>
                <a:srgbClr val="000000"/>
              </a:solidFill>
              <a:latin typeface="Calibri"/>
            </a:endParaRPr>
          </a:p>
        </p:txBody>
      </p:sp>
      <p:sp>
        <p:nvSpPr>
          <p:cNvPr id="49" name="Down Arrow 6"/>
          <p:cNvSpPr/>
          <p:nvPr/>
        </p:nvSpPr>
        <p:spPr>
          <a:xfrm>
            <a:off x="2133720" y="3200400"/>
            <a:ext cx="484200" cy="1130400"/>
          </a:xfrm>
          <a:prstGeom prst="downArrow">
            <a:avLst>
              <a:gd name="adj1" fmla="val 50000"/>
              <a:gd name="adj2" fmla="val 50031"/>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938B-D03C-4174-A727-321A13414A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SWG Challenges to Using Operations Model</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pology processor probl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al lin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section lin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dev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yet to be identified problem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herent differenc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 banks on distribution volt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to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form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tributed gener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models added for contingency analysis, dynamics analysis, or short circuit analysi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ssing data</a:t>
            </a:r>
            <a:endParaRPr b="0" lang="en-US" sz="25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41A2-CCE2-4224-B325-D3D1688F30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SWG Challenges to Using Operations Model, page 2</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 to use pseudo-buses and pseudo-switches.  Will that effect Planning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Topology processor future up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CR to NOMCR trans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not tested uploading PMCRs to MODWeb interface</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96D1-F288-4E0A-B358-DE61670042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WG Survey (1/20/2010)</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you reviewed the topology processed case from Decemb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 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 3</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sory look = 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you begun creating NOMCRs to correct erroneous planning inform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 3</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 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st started = 2</a:t>
            </a:r>
            <a:endParaRPr b="0" lang="en-US" sz="26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3E28-41E7-47A9-8ED4-7C87866556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WG: Next Step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SWG still has to create 11DSA and have TPIT updates in March and Ju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ue with current pla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s Model Clean-up</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NGs, CNs, IDs, Area and Zone #s, etc.</a:t>
            </a:r>
            <a:endParaRPr b="0" lang="en-US" sz="1700" spc="-1" strike="noStrike">
              <a:solidFill>
                <a:srgbClr val="000000"/>
              </a:solidFill>
              <a:latin typeface="Calibri"/>
            </a:endParaRPr>
          </a:p>
          <a:p>
            <a:pPr lvl="2" marL="1143000" indent="-228600">
              <a:lnSpc>
                <a:spcPct val="80000"/>
              </a:lnSpc>
              <a:spcBef>
                <a:spcPts val="4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0000"/>
                </a:solidFill>
                <a:latin typeface="Calibri"/>
              </a:rPr>
              <a:t>SIGNIFICANT AMOUNT OF WORK</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st SSWG members have yet to begi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ERCOT Network Modeling group for changes to Generator PSSE dat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pology Processor resolu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 Training (PMCRs, MODWe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e as-built case, test process and validate one year out case and future planning cas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al for new proces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s for case cre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18B2-ECB8-43C6-964F-857A6BFF78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3"/>
          <p:cNvSpPr/>
          <p:nvPr/>
        </p:nvSpPr>
        <p:spPr>
          <a:xfrm>
            <a:off x="2911320" y="2362320"/>
            <a:ext cx="2952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Questions?</a:t>
            </a:r>
            <a:endParaRPr b="0" lang="en-US" sz="4800" spc="-1" strike="noStrike">
              <a:solidFill>
                <a:srgbClr val="000000"/>
              </a:solidFill>
              <a:latin typeface="Calibri"/>
            </a:endParaRPr>
          </a:p>
        </p:txBody>
      </p:sp>
      <p:sp>
        <p:nvSpPr>
          <p:cNvPr id="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CC66-2F34-4A38-9466-EC10BD49F2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7:13:39Z</dcterms:created>
  <dc:creator>00204343</dc:creator>
  <dc:description/>
  <dc:language>en-US</dc:language>
  <cp:lastModifiedBy>00204343</cp:lastModifiedBy>
  <dcterms:modified xsi:type="dcterms:W3CDTF">2010-02-04T15:50:53Z</dcterms:modified>
  <cp:revision>80</cp:revision>
  <dc:subject/>
  <dc:title>Slide 1</dc:title>
</cp:coreProperties>
</file>